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2C2-C0F6-4E03-936A-6EBE01C1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F78-9329-4551-AC80-57962F7F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B1A-F93D-4530-A063-ADB64D4A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C91-0259-4219-B1EA-3298ED2B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01C7-9E8B-4757-BB68-30396EA0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DBD3-CAFD-4406-A84F-427D58F9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85B7-099B-409D-9347-C90D0CBA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FD7D-D266-4FDF-9716-7A2C4ECD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AC8F-53C5-4995-9251-94076B10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DB1E-7994-494F-A665-F17D359D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6C5C-76FC-4AE3-9DFA-32917BCB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D7B-12A0-461C-9215-0A8B5CAF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993A-8772-461A-A15A-0CBA4568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B70F-948A-4D49-8648-16526781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CAD3-3D17-4B27-9A79-B03BC944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1A9A-962D-4584-95C7-317F9978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0FE8-249C-4D4B-8CC7-6AA3DEBD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718-039C-4023-89CD-2846984D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9BB-D9BD-4F6C-B445-7B3875C7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64E-F106-4349-8C4A-6E3AB387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FDE-C98B-4AF0-A316-E3018ADC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9E3-4282-41A2-993B-CBA46C78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497-6A35-4D38-883E-D1078A2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1B0-9CD5-43E3-8CB6-B212BC67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606D-78F8-47D0-86A4-3F6315D382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0D0E-0DD7-40B6-83CF-3E21F879328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661160" y="4005360"/>
            <a:ext cx="1482840" cy="2852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215b"/>
                </a:solidFill>
                <a:latin typeface="Verdana"/>
              </a:rPr>
              <a:t>Dárcovství 2.0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215b"/>
                </a:solidFill>
                <a:latin typeface="Verdana"/>
              </a:rPr>
              <a:t>možnosti, nástroje a tren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Verdana"/>
              </a:rPr>
              <a:t>Září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fd_logo"/>
          <p:cNvPicPr/>
          <p:nvPr/>
        </p:nvPicPr>
        <p:blipFill>
          <a:blip r:embed="rId2"/>
          <a:stretch/>
        </p:blipFill>
        <p:spPr>
          <a:xfrm>
            <a:off x="0" y="0"/>
            <a:ext cx="21160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. Mecenáš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lávkova tra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 roce 1989 prakticky nebylo na co navazov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adislav Čerych (1925 –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íše social makers/challenger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356000" y="3500280"/>
            <a:ext cx="3571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4. Individuální dárcovství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louhé roky u nás podceňovaný finanční zdro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lice stabilní úroveň darů, a to i přes hospodářskou krizi, v posledních letech dokonce mírný nárů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louhodobě na hladině 1,4 – 1,6 mld ročně, bez prop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řejné sbírky jako tradiční a historický zdroj financí na dobrou věc, sbírka na Národní divad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le průzkumů každý druhý Čech aspoň jednou ročně daruje na char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 ve srovnání se sousedními zeměmi jsou lidé co do kvantity štědří a solidární – kvalitativně chybí zejména pravidelné dárcov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tablování a vznik nových nástrojů pro dárcovství jednotliv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árcovská SM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vní systémový nástroj na podporu individuálního dárcov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mozte dětem 2004 – historicky první možnost darovat mobilem; jednoduchá pravidla, DMS heslo a číslo 87 7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stupnost pro všechny NNO za stejných podmínek – jednoduchý princip, velký impa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eská veřejnost si na dárcovské SMS rychle zvyk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á pomoc zejména při katastrofách (např. tsunami, povodně, polom v Tatrách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dárcovských SMS v ČR fen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zinárodní ocenění (GSM Awards 2004, U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šíření do ostatních zemí, Slovensko, Bulhar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svobození od DPH, roční dárcovské 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funguje?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owdfunding?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 % neziskovek chce vyzkoušet nebo posílit www.darujspravne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nonymita vs. neanony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ž 80% potenciálních dárců uvádí, že by si svůj dar rozmyslelo, kdyby se muselo registrovat nebo zpřístupnit svoje osobní údaje obdarovan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haritytainmen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rovat s radostí, mít zážitek (charitativní běhy, možnost vyzkoušet si něco neobvyklého na vlastní kůži, udělat něco speciálního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ěkuj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lára Šplíchalová, Fórum dár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ivátní dárcovstv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= dary nebo investice do veřejně prospěšných a charitativních projektů, které nepocházejí ze státních finančních zdro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stitucionální („nadační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irem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cenáši/velcí dár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divid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k si stojí Česká republika po více než 25 letech zkušeností a praxe veřejně prospěšného sekto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nstitucionální dárcovstv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dace a nadační fo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účelové sdružení majetku, jehož smyslem je podporovat třetí os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jtransparentnější a nejstabilnější neziskové organizace v rámci sektoru (i ve srovnání s Evropo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ČR zhruba 500 nadací, 1500 nadačních fondů (10% z nich jsou firem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le ankety FD se i přes finanční krizi více než 60% nadací snažilo držet objem peněz na granty na stejné úrovni jako před kriz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le údajů FD ročně nadace podporují NNO zhruba 1,2 m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dační / institucionální dárcovstv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eské nadace a nadační fo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transparentnější a nejstabilnější neziskové organizace v rámci sektoru (i ve srovnání s Evropo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účelové sdružení majetku, jehož smyslem je podporovat třetí os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em je v ČR zaregistrováno 2070 nadací a fondů, z toho 254 má firemního a 1816 jiného než firemního zřizovatele (12% z nich jsou firemní, údaje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3708360" y="4437000"/>
            <a:ext cx="36464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dační / institucionální dárcovstv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57484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dační / institucionální dárcovstv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namen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pare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sná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ofesionální rozdělování finan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mplexní dárcovský ser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dělávání a podpora beneficient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ezpečná investice do komunity, ale i ochota ke zdravému risku = možnost pro vznik sociální ino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dační / institucionální dárcovstv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zdělené prostředky nadacemi a fondy za rok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íce než 1,1mld (firemní i nefiremní subjek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lné investice do komunity ze strany různých privátních subjektů (např. NF Dobrý anděl, NF Avast, Nadace SIRIUS, Nadace Partnerství, NROS, Nadace OSF, Nadace Charty 77 ap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dační jmění v roc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íce než 4 mld (z toho 1,7mld nadace Deposit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onum, kde je zřizovatelem Česká spořitel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ětšina firemních nadačních subjektů však s institutem nadačního jmění neprac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remní dárcovstv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elá řada konceptů a def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corporate citizenship, corporate investment, corporate governance, corporate social responsibility, corporate giving, etc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ČR relativně vysoká poptávka po firmě jako dárci/investorovi do veřejně prospěšných aktivit (až 80% lid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ze v letech 2008/2009 zmrazila firemní dárcovské aktivity a zcela je kvalitativně změn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le údajů MF ČR firmy ročně darují 3,2 m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egionech specifická situace – komunitní podpora, ro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remní dárcovství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rmy investují do charity a kultury na základě svých korporátních strateg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stoupily od podpory ad hoc akcí (případně často řešeno v rámci marketing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opojování stakeholderů (zaměstnanci, zákazníci, dodavatelé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ůznorodost podpory – kombinace finančního a nefinančního plnění, dobrovolnictví (včetně expertní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jem o „přidanou hodnotu“ spolupráce na obou stran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lká diverzita aktivit – rozvoj dárcovský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-36360" y="5229360"/>
            <a:ext cx="834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3:57:42Z</dcterms:created>
  <dc:creator>martina.silhanova</dc:creator>
  <dc:description/>
  <dc:language>en-US</dc:language>
  <cp:lastModifiedBy>Klara Splichalova</cp:lastModifiedBy>
  <dcterms:modified xsi:type="dcterms:W3CDTF">2016-09-14T10:14:44Z</dcterms:modified>
  <cp:revision>62</cp:revision>
  <dc:subject/>
  <dc:title>Firemní nadace a nadační fondy</dc:title>
</cp:coreProperties>
</file>