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D532-F8AD-4A52-A3E1-150F3178C3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8E34-CAE5-4C3E-AD5D-370043E40F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4E3-0F84-468A-A754-C4F562E0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9C5-9FD6-419C-AB31-96BD44FB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3F9-7BC4-4A94-8B83-44A34A25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C27-62DF-4B1C-8D55-198A3D3A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5BC-7886-416B-83C2-634D9BBF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7FB-B61D-4563-8D46-C3BEE154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C7E-0390-43BC-8291-075719C2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4CC-04AE-4824-8EEA-51F42EC5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866-0D71-403C-88CF-FCEE498A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64A-0998-4158-BDA6-B8DC91CF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BEA-4B21-4774-B5E2-90CDF2C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1FE-040E-444F-BDC2-B0496CA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24BD-1C78-451A-8DAC-CDFF9AE3BD4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ocus.cat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reativegesellschaft.org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artsimpactfund.org/" TargetMode="External"/><Relationship Id="rId2" Type="http://schemas.openxmlformats.org/officeDocument/2006/relationships/hyperlink" Target="http://europa.eu/youreurope/business/funding-grants/access-to-finance/search/en/financial-intermediaries?shs_term_node_tid_depth=179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artpodnikani.cz/index.php?open=rizikovy_kapita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hithit.com/cs/home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teo.org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ec.europa.eu/programmes/creative-europe/cross-sector/guarantee-facility_en" TargetMode="External"/><Relationship Id="rId2" Type="http://schemas.openxmlformats.org/officeDocument/2006/relationships/hyperlink" Target="http://www.eif.org/what_we_do/guarantees/cultural_creative_sectors_guarantee_facility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ohemianheritage.cz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ulturradet.no/english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culture/news/2014/2711-work-plan-culture_en.htm" TargetMode="External"/><Relationship Id="rId2" Type="http://schemas.openxmlformats.org/officeDocument/2006/relationships/hyperlink" Target="http://europa.eu/youreurope/business/funding-grants/access-to-finance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ČESKÁ HUDEBNÍ 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ládní střechová hudební organizace, národní středisko Mezinárodní hudební rady při UNESCO, od 1993, v rámci I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C:\Users\lenka.dohnalova\Desktop\logo-CHR.jpg"/>
          <p:cNvPicPr/>
          <p:nvPr/>
        </p:nvPicPr>
        <p:blipFill>
          <a:blip r:embed="rId1"/>
          <a:stretch/>
        </p:blipFill>
        <p:spPr>
          <a:xfrm>
            <a:off x="6516720" y="485640"/>
            <a:ext cx="17272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d Návratné prostředky </a:t>
            </a: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 z veřejných zdr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: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atalánský institut pro kulturní společnosti/compani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Španěls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kytuje kombinaci půjček s dotace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Stát pokryje případné ztráty, v případě úspěšnosti projektu chce prostředky zp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GRUP FOCU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Španělsko. Sdružení 19 divadelních společností, které spolupracují v celém procesu produkce včetně vyřízení práv.  Má k dispozici 5 divadelních scén. Od r. 2002 poskytuje svým členům výhodné půjčky např. na velkoformátové muzikály, produkce zaměřené na rodiny, turné, výstavy v dalších regionech, pokrytí rizika u nových projekt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ocus.cat/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 podstatě princip rozložení rizika  (LD: lze u nás implementovat u asociací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d „One Stop Shops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rinci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„ Pointu“..tj. soustředění širšího portfolia finančních služeb na jednom míst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.: Creative England – neprofitní organizace – je financována od r. 2011 z veřejných i privátních zdroj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kytuje služby společnostem i jednotlivcům. Je to neprofitní organizace, která má podpořit rozvoj, podporu talentů, rozvoj klastrů, export. Oblast digitálních médi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ují jako nadační fond – vyhledávají finanční zdroje, silné investiční partnery pro projekty. Spolupracují s Google, FC, státní správou, univerzitami, vládou, EK. Poskytují /prostředkují půjčky s 0 navýšením, kapitálové investice, programy pro start upy, vouchery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poruje tak B2B, dlouhodobé partnerství s Microsoftem, Sony, kteří jsou partnery vývojářů počítačových her a internetových aplika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www.creativeengland.co.uk/about/who-we-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Další příklady: AWS Austria, Culttur Ondernemen Nizozemí, Hambu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AVS v Gesellschaft (městská organizac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reativegesellschaf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d Půjčky/mikropůj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rinci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zapůjčení financí, majetku, zboží za účelem návratu adekvátní hodnoty. Mohou být termínované, netermínované, účelové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žba – specializovaný fond – víte, kam se obrát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ímavé př.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he Art Impact Fun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od 3/2015 s vkladem 7 milionů liber. do umění se sociálním dopadem.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artsimpactfund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ART Belgie, Culturinvest Belgie, Innovative UK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Mikropůjčky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EU do 25 tis EUR. Mikropodniky tvoří 9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evrops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ého trhu KKS. Také určeny pro SVOČ, kteří mají špatný přístup k bankovním službám.  V EU 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start-u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ů jsou mik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 projektů: Micro Bank La Caixa (Španělsk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RW Bank Německ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ČR </a:t>
            </a:r>
            <a:r>
              <a:rPr b="0" lang="cs-CZ" sz="1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uropa.eu/youreurope/business/funding-grants/access-to-finance/search/en/financial-intermediaries?shs_term_node_tid_depth=179</a:t>
            </a:r>
            <a:r>
              <a:rPr b="0" lang="cs-CZ" sz="1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d Rizikový inve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rinci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investice bez záruk, případný zisk při odprode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aekstfon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enture Capital and Equity Fund, Dán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vestice do KKS mezi léty 2013-15 cca 27 mio E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C Fonds Kreativwirtschaft Berlin I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 financován Investiční bankou Berlin (40 mio EUR) + Fondem regionálního rozvoje administrovaným federativním státem Berlin. Zejména pro technologicky orientované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LEVEN- Accelerator Venture Fund Bulhar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extury Venture, Li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ractica Capital Litv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2 fondy pro přípravu projektu (seed) a start upy orientované na expor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Arengufond Estonsk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vojový fond pro start upy, PP, investory, kteří jsou již zaveden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    http://www.startpodnikani.cz/index.php?open=rizikovy_ka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d Andělský investor </a:t>
            </a: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Zárodečný kapitá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rinci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investice majetných fyzických osob, případný zisk při odprodej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victa Angels – Asociace obchodních andělů z Oport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ortugal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m je propojovat kreativní projekty s investo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Businnes Angels Scheme for Cultu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Španěl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dělé“ působí zároveň jako odborní porad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Zárodečný kapitál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áze - vývoj prototypu, průzkum trhu, přípravu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 AIB Seed Capital Fund Irsko, White Star Capital U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R – malá podpora zárodečného stádia→ nedostatečná příprava projekt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d Crowdfu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rincip: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pora projektu z malých částek od velkého množství investorů s užitím internetových platforem.  Rychlý rozvoj o stovky procent. 2. poz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osvětový obrat 2015 – 34 mld. USD (DeVos Institute). Největší Kickstarter 2,2 m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atforma si ponechává cca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.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eský HitHi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vice než 1 tis. projektů.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hithit.com/cs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vše, nebo nic, flexibil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vouf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ázový (minimum, optimum)  Limitovaná délka kampaně (do 60 dní, HitHit 45 dní), nejúspěšnější fáze do 30 dní, důležitá obrazová dokumentace, navýšit požadavek, připravit kampaň. Být stručn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spirace – materiál EU popisuje více typů, např. i půjčování (obdoba zonky.cz),  investiční, návratnost nejen finanční, ale také ve zboží, službách, podílech na zi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d Mix s crowdfundin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íšené formy – finančně-personální (sociál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GOTE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Španělsko  - platforma kolektivního financování a spolupráce v oblasti služeb, sdílení materiálních zdrojů, infrastruktury. Získává prostředky od privátních institu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 tis. – 100 tis. na projekt. (komunitní princ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agují projekty v režimu common creation, nezávislou kulturu se sociálními dopady. Dvě fáze po 40 dnech – minimum/optim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oteo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Unicredit Bank Austria Art A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ěn HitHit užívající mix se spoluprací s Nadací Vodafone na projektu V Pohyb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d Garance/pojišt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rincip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mlouva se třetí stranou o pokrytí případných ztrá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é i soukromé a smíšen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Hlavní sdělení 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reative Europe Loan Garantee Fac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iciuje EK pomocí Evropského investičního fondu. Jeho cílem je garantovat případné ztráty u půjček národních států v KKS. Celková částka fondu je 121 milionů EUR. Je zakládán v rámci Creative Culture „cross-sectoral stran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c.europa.eu/programmes/creative-europe/cross-sector/guarantee-facility_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zva na deklaraci zájmu pro finanční instituce 18.7.2016, Deadline 31.12.2020. Reference EAC 14/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jekty se budou obracet na vybrané finanční prostředníky v každé zem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třeba – může váznout na nezájmu finančních institucí, nebo na legislativě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inanční prostředníci mohou získat trénink (co je KKS). Pro všechny obory, profi i neprofi. Kdo může být prostředníkem? – banky, leasingové společnosti, fond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if.org/what_we_do/guarantees/cultural_creative_sectors_guarantee_facility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d Sponsoring/ Firemnídary/Filantro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rincip sponsoringu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louva o reklamě. Dva druhy v EU: ovlivňující obsah, neovlivňující obsah. Daňově uznatelné náklady. Pro obdarovanou organizaci jsou to příjmy zahrnuté do základu dan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rincip  firemního daru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rce očekává nepřímý benefit (službu pro své zaměstnance, zážitek, prestiž…) Limitovaná částka odečitatelná ze základu daně. U nás u právnické osoby max. do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ze 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kladu daně, DPH je pro dárce dalším nákladem spojeným s dar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Nadace a nadační fondy, o.p.s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hou uplatnit osvobození od daně darovací, pokud je dar určen pro kultur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Filantropie </a:t>
            </a:r>
            <a:r>
              <a:rPr b="0" lang="cs-CZ" sz="2000" spc="-1" strike="noStrike">
                <a:solidFill>
                  <a:srgbClr val="0d0d0d"/>
                </a:solidFill>
                <a:latin typeface="Arial"/>
              </a:rPr>
              <a:t>– různé formy i nepeněžní. Prioritou není zi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d0d0d"/>
                </a:solidFill>
                <a:latin typeface="Arial"/>
              </a:rPr>
              <a:t>V ČR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ohemianheritage.cz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0d0d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Public-Private Iniciati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Arco Fundatio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International Contemporary Art Fair, Španěls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he Arts Council of Norwa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vní vládní operátor pro implementaci Norské kulturní politiky. Je zcela financován státem, ale umožňuje např.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pilotní projekt na rekonstrukci muzea . V režimu PP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uzeum obdrželo z privátního sektoru dary a Ministerstvo kultury doplní o 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. V r. 2014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celkovým rozpočtem 1,2 mio E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zajímavý je vysoký podíl přímé podpory umělců granty – 31 mio EUR, KKS 94 mio.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kulturradet.no/engl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RAC  - Fond regionaux d´art contemporain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ie –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tvořený 1982  z iniciativy Ministertva kultury v partnerství s regiony na podporu tvorby v regionech a práci s publikem, mobilitu sbírek, výstav. Nověji i šíření elektron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wards more efficient financial ecosyst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novative instrument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 facil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ACCESS TO    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bookshop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Zástupný symbol pro obsah 7" descr="TVORIVOSTASPOLUPRACE.jpg"/>
          <p:cNvPicPr/>
          <p:nvPr/>
        </p:nvPicPr>
        <p:blipFill>
          <a:blip r:embed="rId1"/>
          <a:stretch/>
        </p:blipFill>
        <p:spPr>
          <a:xfrm>
            <a:off x="4940280" y="1600200"/>
            <a:ext cx="345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SWOT komise – fáze „začínáme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STÁDIU PŘÍPRAVY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statek informací o finančních zdroj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lá finanční gramot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statečná znalost v oblasti marketingu (business plán, rozvoj firm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troje:  Mikropůjčky, crowdfunding, kreativní vouchery, gra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: crowdfundingové úspěchy..Por Ela Portugalsko, Gute Leute Magazine (Německo, Hamburg) také crowdfunding Nordstarter. U nás Jatka78 – Cirkus La Putyka..pros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Start - u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sh flow, pracovní a rezervní kapitál, získávání zaměstnanců, budování infrastruktury, investice od I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TROJE: Andělské investice, akcelerátory, inkubátory, rizikový kapitál, start upové granty, mikropůjčky a ga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rtupHighway – akcelerátor v Litvě od r. 2011. Investiční programy pro inovativní technologie. 25 tis. EUR. Ponechávají si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5%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or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200 i z US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startuphighway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KOKO – art, Dánsko, start up pro animační technologie v divadle. Přesun do St. Francisca. www.rokoko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Inkubá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lé podnikatelské dovednosti a znalosti trh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TRO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 při hledání investorů, partnerů, expertí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inkubátorech sdílí prostor a prostředky často více startu upů. 3 leté období inkubace. Plus je v kooperaci různých obor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nty, zárodečný kapitá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Enterprise Estoni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s národní podporou – granty pro akcelerátory, rozvojová centra, propojování sektorů, budování infrastruktury a investice, od r. 2000, finanční + poradenská a vzdělávací činnost. www.eas.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Creative Andrejsa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(Litva) s podporou MK a Ministerstva hospodářství. www.csala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Support for cultural and creative start up in Lombardy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kombinuje podporu regionální správy, obchodní komory. Finanční i vzdělávací. Podpora mezi 7-10 tis. E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Financování intelektuálního vlastnic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lo finančních nástrojů pro rozvoj a komercionalizaci IP práv. Pro řešení je třeba podpořit partnerství public-priv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isionplus Fun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Finsko). Je to investor do  služeb v oblasti obchodu s právy, SaaS (software and service). Podíl na zisku chtějí právě z obchodu s právy – podnikatelsk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ww.visionplus.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Audd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Švédsko) – nezávislý globální hub, agregátor dat o skladbách a vlastnících práv. Je to koordinační platfor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ww.auddly.com (heslo: sdílíme zátěž s právní stránkou k vaší hudbě, napomáháme vyřízení..) – komunitní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Investice do sociálního umě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statek finančních zdrojů pro rozvo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TROJ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anty, crowdfunding, 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. Respekt.net – crowdfunding pro lepší společnost (Rakousk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r. 20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ZÁVĚ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ste počet finančních nástrojů pro K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tříštěnost  finančních nástro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asymetrie – finančníci nejsou dostatečně inform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á zralost finančního ekosystému v jednotlivých zem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řešené právní problémy v oblasti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: PROBLÉMY V Č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í finanční a legislativní nástroje pro podporu rozvoje infrastruktury. Je třeba meziresortně, mezioborově a politicky prozkoumat, co z uvedených „nástrojů“ je proveditelné v Č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řeba budovat mezivrstvu služeb fondů, agregátorů služeb a dat pro obor, specializované „pointy“ pro konkrétní firmy a projek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DOPORUČENÍ k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ovat a implementovat nové finanč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ílit přístup k financí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ovat partnerství s dalšími sek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ovat přístup k financím propagací mezi inve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stit lepší data z K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épe vyhodnotit SWOT 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ská hudební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www.chr.nipax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0 kolektivních čle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sident Č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. Javůrek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vur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janackuvmaj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retariát: I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hDr. L. Dohnalová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nka.dohnalo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divadlo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420 603 584 2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:\Users\lenka.dohnalova\Desktop\logo-CHR.jpg"/>
          <p:cNvPicPr/>
          <p:nvPr/>
        </p:nvPicPr>
        <p:blipFill>
          <a:blip r:embed="rId1"/>
          <a:stretch/>
        </p:blipFill>
        <p:spPr>
          <a:xfrm>
            <a:off x="611280" y="333360"/>
            <a:ext cx="1833480" cy="107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CCESS TO FINANCE for CCS</a:t>
            </a:r>
            <a:br>
              <a:rPr sz="3600"/>
            </a:b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Good Practice Report -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71120"/>
            <a:ext cx="8229600" cy="478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riál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expertní skupiny E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administra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en Method of Coordination z r. 2016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EK-odd.pro vzd.a kul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a 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stupu k financím pro kulturní organizace a malé a střední podniky v rámci KKS“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7/2014 v rámci rady WORK PLAN FOR CULTURE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culture/news/2014/2711-work-plan-culture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ndát byl prodloužen pro další období 2015-18 s cílem „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dentifikovat inovativní finanční schémata a investiční praxe pro KKS“, „zaměřit se na finanční ekosystém KK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litický kontex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význam KKS pro dynamiku ekonomiky, konkurenceschopnost a zaměstnanost v EU. Dynamika KKS ≠ dynamice FS. Potřeba adaptace nástrojů na rostoucí význam virtuálních a nehmotných produktů (v oblasti technologií a obchodu s práv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   Materiál prezentován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IDEM 201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rozeslán jednotlivým státům 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uropa.eu/youreurope/business/funding-grants/access-to-financ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CO JE PRO NÁS UŽITEČN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světlení  klíčových pojmů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na které odkazují další strategické a dotační program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ypologie modelů financován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širší, než jsme zvykl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ajímavé odkaz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droje jsou srozumitelnější, než kompi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užitelné nebo inspirativní dobré příklad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některé služby by se daly zavést i u n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WOT, tj. závěry a doporučení 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užitelné při komunikaci se státní správou. Inspirace pro  podnikatelské záměry apod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KLÍČOVÁ SLOVA</a:t>
            </a: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Finanční ekosysté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anční ekosysté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 systém/network, který sleduje vzájemná propojení  a procesy finančního prostře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nitřní prostředí organizac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inanční bilance, know-how, business plán, nabídka zboží a služe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nější prostřed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putace oboru, dynamika trhu, sociální a mediální zájem, nabídky finančního trhu pro KKS, nabídka a poptávka po zboží a službách KKS, regulační a politické interven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o vše ovlivňuje konkurenceschopnost i na reálném i  finančním trhu, i když tomu konkrétní žadatel nevěnuje pozorn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TRENDY ve finančním ekosystému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nitřní prostřed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ste význam dobře nastaveného business plánu, hodnotí se kreativita vedení (tj. flexibilita), kooperace se zákazníky, reflektování nejen praktických, ale také sociálních a emocionálních zákaznických potřeb. B2B (ve veřejných dotací vlákno „cross sectors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nější prostřed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komplexní příst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nnou hodnotou mohou být nejen finance, ale také poskytnutí know-how, výměna služeb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tí se také budování segmentu podporovatelů („family“) tj. přátel, dlouhodobých partnerů. Vstup andělského kapitálu, nástroje koučování, inkubátory, akcelerátory, spolupráce s výzkumem, tvorba klastrů, platforem atp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:  Postoj k trendům – záleží na tom, jestli požadujete, nebo nabízí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ud nabízíte, můžete být úspěšní v „protiproudu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 EU sleduje facilitující služby, mixy finančních zdrojů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TYPOLOGIE FINANCOVÁNÍ KKS</a:t>
            </a:r>
            <a:br>
              <a:rPr sz="3600"/>
            </a:b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existující nebo využívaná nabíd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Zástupný symbol pro obsah 3" descr=""/>
          <p:cNvPicPr/>
          <p:nvPr/>
        </p:nvPicPr>
        <p:blipFill>
          <a:blip r:embed="rId1"/>
          <a:stretch/>
        </p:blipFill>
        <p:spPr>
          <a:xfrm>
            <a:off x="304920" y="1596960"/>
            <a:ext cx="84121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d G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inci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při splnění podmínek se nevrací veřejné prostřed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Zajímavos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zacílení 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terpreise Estoni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start-upové granty, rozvojové gra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EKES Finlan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granty pro inov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vega Litv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podpora pro propagaci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: v ČR chybí v tomto segmentu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odpora rozvoje infrastruktury a tzv. lidských zdroj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0000"/>
                </a:solidFill>
                <a:latin typeface="Arial"/>
              </a:rPr>
              <a:t>ad Vouch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inci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 držitel získá substitut financí pro účelový nákup nebo službu. Dotované vouchery přispívající k profesionalizaci, vzdělává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Zajímavos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reative voucher schem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 poskytované vládou (nebo státní správou) pro malé a střední podniky KKS na služby, které napomáhají zavádět inovace. Typická je podpora spolupráce mezi státními organizacemi, vědci a podnikateli. Rozvíjí B2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vedeno např. v Rakousku, Německu, Litvě, v UK: „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Innovation Voucher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5 tis. liber na poskytnutí expertních služeb, IT, designování, nebo  „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Growth Vouchers Reserch Programm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ý dotuje poradenství v oblasti finančního know-how, leadreshipu, PR, IT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5T11:23:38Z</dcterms:created>
  <dc:creator>lenka.dohnalova</dc:creator>
  <dc:description/>
  <dc:language>en-US</dc:language>
  <cp:lastModifiedBy>lenka.dohnalova</cp:lastModifiedBy>
  <dcterms:modified xsi:type="dcterms:W3CDTF">2016-09-22T14:24:02Z</dcterms:modified>
  <cp:revision>265</cp:revision>
  <dc:subject/>
  <dc:title>YEAR OF CZECH MUSIC</dc:title>
</cp:coreProperties>
</file>