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7369-6742-41DD-8F1E-2BC90E4D90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symbol pro datum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BF1-4EB2-4A3F-AFB6-D7ACC609B4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datum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ástupný symbol pro číslo snímku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67A3-F270-4B41-8F07-1DCE2FED1B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ástupný symbol pro datum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ástupný symbol pro číslo snímku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9BE9-4F38-489C-9544-25FDAA2EDB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8A2-A200-4A6B-AAF7-93BA23F7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6FE-DCB5-4BFC-A93E-A4F3F343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AD0-9CE3-4630-889C-4C778498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158-99E3-4875-B204-00754A64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2B9-8C25-489A-A58E-D1A1AA66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0FE-E2BF-41D9-83ED-DEB0FEF5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DAEF-4608-4229-93E6-63BA65FD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06A-8635-40E7-B023-0BB373FE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11E-1471-4789-82CD-83B12FE7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2CE-D7AF-4DB3-A596-CD65206E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3F1-2DDF-49FF-8252-E3EAA51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ECA1-098D-4331-9B07-2AA75CFD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14BC-19AD-4CF2-ACBF-8A78A596D0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Jitka.valcharova@dzs.cz" TargetMode="External"/><Relationship Id="rId3" Type="http://schemas.openxmlformats.org/officeDocument/2006/relationships/hyperlink" Target="mailto:Jitka.valcharova@dzs.cz" TargetMode="External"/><Relationship Id="rId4" Type="http://schemas.openxmlformats.org/officeDocument/2006/relationships/hyperlink" Target="mailto:Jitka.valcharova@dzs.cz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twinning.net/" TargetMode="External"/><Relationship Id="rId2" Type="http://schemas.openxmlformats.org/officeDocument/2006/relationships/hyperlink" Target="http://www.naerasmusplus.cz/cz/o-programu/kontaktni-seminare/" TargetMode="External"/><Relationship Id="rId3" Type="http://schemas.openxmlformats.org/officeDocument/2006/relationships/hyperlink" Target="http://www.schooleducationgateway.eu/" TargetMode="External"/><Relationship Id="rId4" Type="http://schemas.openxmlformats.org/officeDocument/2006/relationships/hyperlink" Target="http://www.salto-youth.net/" TargetMode="External"/><Relationship Id="rId5" Type="http://schemas.openxmlformats.org/officeDocument/2006/relationships/hyperlink" Target="http://ec.europa.eu/epale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erasmusplus.cz/" TargetMode="External"/><Relationship Id="rId2" Type="http://schemas.openxmlformats.org/officeDocument/2006/relationships/hyperlink" Target="http://www.dzs.cz/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K:\O1A\PR\Prezentační šablony\Hedvika\DZS\titulni\2013\DZS_powerpoint_sablona_titulni_bilaloga_2013_erasmusplu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55964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alibri"/>
              </a:rPr>
              <a:t>Evropský vzdělávací program 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alibri"/>
              </a:rPr>
              <a:t>Erasmus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3213000"/>
            <a:ext cx="4753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14. 9. 2016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Jitka Valchář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jitka.valcharova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@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dzs.cz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fc5a1"/>
                </a:solidFill>
                <a:latin typeface="Calibri"/>
              </a:rPr>
              <a:t>Země zapojené do programu Erasmus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1599840"/>
            <a:ext cx="446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ašimi partnery mohou být „programové země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8 členských zemí E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orsko, Lichtenštejnsko, Island, Turecko, Makedo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artnery pro některé aktivity mohou být i „partnerské země“ sousedící s EU a další ze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Zástupný symbol pro obsah 6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554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  <a:ea typeface="Arial"/>
              </a:rPr>
              <a:t>Hledání partner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1915920"/>
            <a:ext cx="8208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55680" indent="-355680">
              <a:spcBef>
                <a:spcPts val="700"/>
              </a:spcBef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ita eTwinning: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twinning.ne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55680" indent="-355680">
              <a:spcBef>
                <a:spcPts val="700"/>
              </a:spcBef>
              <a:spcAft>
                <a:spcPts val="601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čast na tzv. kontaktních semináří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55680" indent="-355680">
              <a:spcBef>
                <a:spcPts val="700"/>
              </a:spcBef>
              <a:spcAft>
                <a:spcPts val="60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aerasmusplus.cz/cz/o-programu/kontaktni-seminare/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55680" indent="-355680">
              <a:spcBef>
                <a:spcPts val="7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schooleducationgateway.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55680" indent="-355680">
              <a:spcBef>
                <a:spcPts val="7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salto-youth.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55680" indent="-355680">
              <a:spcBef>
                <a:spcPts val="7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ec.europa.eu/epal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6760" indent="-181080"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Informace o Erasmu+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indent="-363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rodní agentura programu Erasmus+ v ČR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decentralizované aktivity)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www.naerasmusplus.cz , www.dzs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363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363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konná agentura (EACEA) v Brusel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centralizované aktivity)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eacea.ec.europa.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363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363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webová stránka Evropské komise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http://ec.europa.eu/programmes/erasmus-plus/index_cs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36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6400" indent="-363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363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Důležité dokumen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Příručka k programu Erasmus+ (Erasmus+ Programme Guide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- každoročně aktualizován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Výzva k předkládání návrhů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- termíny uzávěrek pro jednotlivé akce a sektory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Příručka „Předkládání žádostí Krok za krokem“</a:t>
            </a:r>
            <a:br>
              <a:rPr sz="3100"/>
            </a:b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www.naerasmusplus.cz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KA1 –  projekty mo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341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adatelem je instituce, která může naplánovat libovolný počet mobilit pro své pracovník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ždy s ohledem na konkrétní a aktuální potřeby instituce na přínos organizaci a efektivnost projek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bility pro pedagogy a jiné zaměstna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fesní rozvoj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staff training abroad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urzy, školení, job-shadowing (stínován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ukový poby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teaching/training assignment abroad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uka předmětu v zahraničí prostřednictvím pracovní stáž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bility pro žáky v odborném vzdělávání a příprav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udijní pobyt nebo praktická stáž pro studenty V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bility v sektoru neformálního vzdělávání mládež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KA2 – strategická partnerstv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projekt partnerství s cílem vzájemné spolupráce, výměny zkušeností, rozvoje kompetencí, vývoje inov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élka projektu: 12 až 36 měsíc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čet partnerů: min. 3 partneři ze 3 programových zemí (až na výjim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ahoma"/>
              </a:rPr>
              <a:t>žádost podává organizace koordinátora za všechny partnery NA ve své z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žné typy projektů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rategická partnerství za účelem vzájemné výměny postupů a dobré prax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rategická partnerství pro podporu a rozvoj inova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Sítě Erasmus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Eurodesk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evropská informační síť, která umožňuje mladým lidem a pracovníkům s mládeží snadný a rychlý přístup k informacím www.eurodesk.c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ECVET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evropský systém kreditů pro odborné vzdělávání a příprav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usnadní uznávání výsledků učení v rámci mo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Euro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celoevropská síť středisek, která se zabývá poradenskými systém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Euryd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evropská informační síť, která sbírá, sleduje, zpracovává a šíří spolehlivé a snadno srovnatelné informace o vzdělávacích systémech a o vzdělávací politice v celé Evropě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Tahoma"/>
              </a:rPr>
              <a:t>Evropská jazyková cena Lab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Další aktivity DZ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European School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Akademická informační agentura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bídky stipendijních pobytů v zahraničí na základě mezinárodních smluv a o dalších možnostech zahraničního stu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AKTION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eská republika - Rakousko, spolupráce ve vědě a vzdělávání pro podporu bilaterální spolupráce v terciárním sekt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EEPUS -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e středoevropský výměnný univerzitní program zaměřený na regionální spolupráci v rámci sítí univerzit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orské fondy a fondy E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Program podpory českého kulturního dědictví v zahranič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Studyin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Tahoma"/>
              </a:rPr>
              <a:t>Více na www.dzs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K:\O1A\PR\Prezentační šablony\Hedvika\DZS\sablony_titulni\DZS_powerpoint_sablona_titulni_malesiluety_inverze.jpg"/>
          <p:cNvPicPr/>
          <p:nvPr/>
        </p:nvPicPr>
        <p:blipFill>
          <a:blip r:embed="rId1"/>
          <a:stretch/>
        </p:blipFill>
        <p:spPr>
          <a:xfrm>
            <a:off x="-10800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Calibri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38680"/>
            <a:ext cx="64008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Jitka Valchář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alibri"/>
              </a:rPr>
              <a:t>+420 221 850 1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jitka.valcharov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@</a:t>
            </a:r>
            <a:r>
              <a:rPr b="1" lang="cs-CZ" sz="3200" spc="-1" strike="noStrike">
                <a:solidFill>
                  <a:srgbClr val="ffffff"/>
                </a:solidFill>
                <a:latin typeface="Calibri"/>
              </a:rPr>
              <a:t>dzs.c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Nadpis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24000" y="692280"/>
            <a:ext cx="842472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Arial"/>
                <a:ea typeface="Arial"/>
              </a:rPr>
              <a:t>Dům zahraniční spoluprá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6fc5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ahoma"/>
              </a:rPr>
              <a:t>přímo řízená organizace MŠM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6fc5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ahoma"/>
              </a:rPr>
              <a:t>mezinárodní aktivity v oblasti vzdělává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6fc5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ahoma"/>
              </a:rPr>
              <a:t>administruje vzdělávací programy Evropské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6fc5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ahoma"/>
              </a:rPr>
              <a:t>Národní agentura programu Erasmus+ 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Arial"/>
                <a:ea typeface="Tahoma"/>
                <a:hlinkClick r:id="rId1"/>
              </a:rPr>
              <a:t>www.naerasmusplus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6fc5a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dzs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" descr="DZS_silueta6.jpg"/>
          <p:cNvPicPr/>
          <p:nvPr/>
        </p:nvPicPr>
        <p:blipFill>
          <a:blip r:embed="rId3"/>
          <a:stretch/>
        </p:blipFill>
        <p:spPr>
          <a:xfrm>
            <a:off x="7885080" y="4653000"/>
            <a:ext cx="1062000" cy="19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petr.chalus\Pictures\DZS_SPEC.jpg"/>
          <p:cNvPicPr/>
          <p:nvPr/>
        </p:nvPicPr>
        <p:blipFill>
          <a:blip r:embed="rId4"/>
          <a:stretch/>
        </p:blipFill>
        <p:spPr>
          <a:xfrm>
            <a:off x="324000" y="5516640"/>
            <a:ext cx="237636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67292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gramové období: 2014 –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gram pro vzdělávání, odbornou přípravu, mládež a 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vazuje na úspěchy programů: Program celoživotního učení, Mládež v akci, Erasmus Mundus, Tempus a další iniciativy Evropské kom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uje mezinárodní mobility a spolupráci, inovační procesy a dobrou praxi, politiku a reformy na všech úrovních a formách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32846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Struktura programu Erasmus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ál 2"/>
          <p:cNvSpPr/>
          <p:nvPr/>
        </p:nvSpPr>
        <p:spPr>
          <a:xfrm>
            <a:off x="268200" y="1560600"/>
            <a:ext cx="3205080" cy="2952720"/>
          </a:xfrm>
          <a:prstGeom prst="ellipse">
            <a:avLst/>
          </a:prstGeom>
          <a:solidFill>
            <a:srgbClr val="6fc5a1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ál 4"/>
          <p:cNvSpPr/>
          <p:nvPr/>
        </p:nvSpPr>
        <p:spPr>
          <a:xfrm>
            <a:off x="3132000" y="3789360"/>
            <a:ext cx="2880000" cy="2736720"/>
          </a:xfrm>
          <a:prstGeom prst="ellipse">
            <a:avLst/>
          </a:prstGeom>
          <a:solidFill>
            <a:srgbClr val="6fc5a1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ál 5"/>
          <p:cNvSpPr/>
          <p:nvPr/>
        </p:nvSpPr>
        <p:spPr>
          <a:xfrm>
            <a:off x="5699160" y="1508040"/>
            <a:ext cx="3097080" cy="2882880"/>
          </a:xfrm>
          <a:prstGeom prst="ellipse">
            <a:avLst/>
          </a:prstGeom>
          <a:solidFill>
            <a:srgbClr val="6fc5a1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449280" y="2028960"/>
            <a:ext cx="284328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KA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(Klíčová akce 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Projekty mobil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7"/>
          <p:cNvSpPr/>
          <p:nvPr/>
        </p:nvSpPr>
        <p:spPr>
          <a:xfrm>
            <a:off x="5826240" y="2031840"/>
            <a:ext cx="277164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KA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(Klíčová akce 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Projekty spoluprá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8"/>
          <p:cNvSpPr/>
          <p:nvPr/>
        </p:nvSpPr>
        <p:spPr>
          <a:xfrm>
            <a:off x="3276720" y="3933720"/>
            <a:ext cx="26636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KA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(Klíčová akce 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  <a:ea typeface="Arial"/>
              </a:rPr>
              <a:t>Podpora politických ref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ál 6"/>
          <p:cNvSpPr/>
          <p:nvPr/>
        </p:nvSpPr>
        <p:spPr>
          <a:xfrm>
            <a:off x="1042920" y="4919760"/>
            <a:ext cx="1440000" cy="1245960"/>
          </a:xfrm>
          <a:prstGeom prst="ellipse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9"/>
          <p:cNvSpPr/>
          <p:nvPr/>
        </p:nvSpPr>
        <p:spPr>
          <a:xfrm>
            <a:off x="1185840" y="5126040"/>
            <a:ext cx="11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Jean Mo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ál 11"/>
          <p:cNvSpPr/>
          <p:nvPr/>
        </p:nvSpPr>
        <p:spPr>
          <a:xfrm>
            <a:off x="6823080" y="5126040"/>
            <a:ext cx="1512720" cy="1241280"/>
          </a:xfrm>
          <a:prstGeom prst="ellipse">
            <a:avLst/>
          </a:prstGeom>
          <a:solidFill>
            <a:srgbClr val="fac09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13"/>
          <p:cNvSpPr/>
          <p:nvPr/>
        </p:nvSpPr>
        <p:spPr>
          <a:xfrm>
            <a:off x="6932520" y="5514840"/>
            <a:ext cx="13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CÍLOVÉ SKUPINY</a:t>
            </a:r>
            <a:br>
              <a:rPr sz="2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dělávací instituce (MŠ, ZŠ, ZUŠ, SŠ, SOŠ, VOŠ, V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Ředitelé, pedagogové, žáci, studenti a ostatní zaměstna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řady, muzea, galerie, knihov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polky, sportovní kluby, občanská sdruž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rganizace zaměřené na neformální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oukromé instit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K:\O1A\PR\Prezentační šablony\Hedvika\DZS\sablony_titulni\DZS_powerpoint_sablona_titulni_malesiluety.jpg"/>
          <p:cNvPicPr/>
          <p:nvPr/>
        </p:nvPicPr>
        <p:blipFill>
          <a:blip r:embed="rId1"/>
          <a:srcRect l="6687" t="76252" r="5901" b="8003"/>
          <a:stretch/>
        </p:blipFill>
        <p:spPr>
          <a:xfrm>
            <a:off x="176040" y="5445000"/>
            <a:ext cx="89679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SEKTORY PROGRAM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000" y="1844280"/>
            <a:ext cx="8289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ní vzdělává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borné vzdělávání a příprav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sokoškolské vzdělává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dělávání dospělý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formální vzdělává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K:\O1A\PR\Prezentační šablony\Hedvika\DZS\sablony_titulni\DZS_powerpoint_sablona_titulni_malesiluety.jpg"/>
          <p:cNvPicPr/>
          <p:nvPr/>
        </p:nvPicPr>
        <p:blipFill>
          <a:blip r:embed="rId1"/>
          <a:srcRect l="6687" t="76252" r="5901" b="8003"/>
          <a:stretch/>
        </p:blipFill>
        <p:spPr>
          <a:xfrm>
            <a:off x="34920" y="5495760"/>
            <a:ext cx="89679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Rozpočet programu Erasmus+ </a:t>
            </a:r>
            <a:br>
              <a:rPr sz="4000"/>
            </a:br>
            <a:r>
              <a:rPr b="1" lang="cs-CZ" sz="4000" spc="-1" strike="noStrike">
                <a:solidFill>
                  <a:srgbClr val="6fc5a1"/>
                </a:solidFill>
                <a:latin typeface="Calibri"/>
              </a:rPr>
              <a:t>v letech 2014 – 20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47640" y="2276640"/>
          <a:ext cx="4967640" cy="2835000"/>
        </p:xfrm>
        <a:graphic>
          <a:graphicData uri="http://schemas.openxmlformats.org/drawingml/2006/table">
            <a:tbl>
              <a:tblPr/>
              <a:tblGrid>
                <a:gridCol w="1584360"/>
                <a:gridCol w="338328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kem rozpočet v EUR dle smlouvy s 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31 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802 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410 7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fc5a1"/>
                </a:solidFill>
                <a:latin typeface="Calibri"/>
              </a:rPr>
              <a:t>Výše přidělených prostředků programu Erasmus+ z výzvy 2015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2120760"/>
          <a:ext cx="8280360" cy="4491000"/>
        </p:xfrm>
        <a:graphic>
          <a:graphicData uri="http://schemas.openxmlformats.org/drawingml/2006/table">
            <a:tbl>
              <a:tblPr/>
              <a:tblGrid>
                <a:gridCol w="2389320"/>
                <a:gridCol w="2579760"/>
                <a:gridCol w="1511280"/>
                <a:gridCol w="1800000"/>
              </a:tblGrid>
              <a:tr h="459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last progra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kem přiděleno v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líčová ak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řiděleno v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ní vzdělá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19 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3 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65 5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é vzdělávání  a pří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591 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483 6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08 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oškolské vzdělá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11 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573 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8 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row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ání dospělý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77 5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 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9 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row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áde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50 6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7 9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1 8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739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fc5a1"/>
                </a:solidFill>
                <a:latin typeface="Calibri"/>
              </a:rPr>
              <a:t>Rozložení předělených financí v oblastech programu Erasmus+ ve výzvě 2015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00280"/>
          <a:ext cx="5616720" cy="2225520"/>
        </p:xfrm>
        <a:graphic>
          <a:graphicData uri="http://schemas.openxmlformats.org/drawingml/2006/table">
            <a:tbl>
              <a:tblPr/>
              <a:tblGrid>
                <a:gridCol w="3292560"/>
                <a:gridCol w="23241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l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řiděleno v E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ní vzdělá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19 5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é vzdělávání a pří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591 8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oškolské vzděláv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11 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ělávání dospělý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77 5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áde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50 6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81" name="Graf 4" descr=""/>
          <p:cNvPicPr/>
          <p:nvPr/>
        </p:nvPicPr>
        <p:blipFill>
          <a:blip r:embed="rId1"/>
          <a:stretch/>
        </p:blipFill>
        <p:spPr>
          <a:xfrm>
            <a:off x="2048040" y="4071960"/>
            <a:ext cx="46814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08:55:05Z</dcterms:created>
  <dc:creator>abramcukova</dc:creator>
  <dc:description/>
  <dc:language>en-US</dc:language>
  <cp:lastModifiedBy>Jitka</cp:lastModifiedBy>
  <dcterms:modified xsi:type="dcterms:W3CDTF">2016-09-13T19:47:24Z</dcterms:modified>
  <cp:revision>34</cp:revision>
  <dc:subject/>
  <dc:title>Dům zahraničních služeb</dc:title>
</cp:coreProperties>
</file>